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C60-D9A2-4E9B-9B09-897BBAD5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7C2-ACF5-46A6-8704-7E19A3CC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3A4-5B65-4311-B0C9-F983774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372-8557-4CC0-A68B-5C298A1B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9809-2D99-4B71-982A-A323112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5EA-612B-40B4-A451-823CE9DA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0F2-8985-4857-AAD1-13841E5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345-CC06-4887-9337-6AB49305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939-DA71-4FE7-9A01-0B8C25D4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8C9-9742-495A-AAAA-41E40D2C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1CB-9E66-4633-A8B9-EE04CF3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22A-6C4B-4DBB-8F30-545DC4A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1336-4DDD-4517-9C99-73A53D66115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E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mobilitātes</a:t>
            </a:r>
            <a:br>
              <a:rPr sz="5400"/>
            </a:b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omas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jaunumi</a:t>
            </a:r>
            <a:r>
              <a:rPr b="1" lang="lv-LV" sz="5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Latvijā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un</a:t>
            </a:r>
            <a:br>
              <a:rPr sz="5400"/>
            </a:br>
            <a:r>
              <a:rPr b="1" lang="en-US" sz="5400" spc="-1" strike="noStrike">
                <a:solidFill>
                  <a:srgbClr val="558ed5"/>
                </a:solidFill>
                <a:latin typeface="Calibri"/>
              </a:rPr>
              <a:t> ieskats NEKP 2030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aisnstūris 4"/>
          <p:cNvSpPr/>
          <p:nvPr/>
        </p:nvSpPr>
        <p:spPr>
          <a:xfrm>
            <a:off x="857160" y="478620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nis Ber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biedrības “Bezizmešu mobilitātes atbalsta biedrība”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TL uzlāde daudzdzīvokļu māju iedzīvotāj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tas skaitīšana 2011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dzdzīvokļu mājās dzīvo 68,0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dividuālajās mājās – 28,3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vīņu mājās un divu dzīvokļu mājās katrā – 1,1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indu mājās – 0,6%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edzīvojamās ēkās – 0,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iedzīvotā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181B-8706-4DB7-973F-3F6FD58DB3F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08-15 “Publiskas būv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89.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Publiskās ēkās ar vairāk nek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0 autostāvvietām paredz vismaz vienu elektrotransportlīdzekļu uzlādes punktu, kā arī katrai piektajai autostāvvietai paredz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AE7F-F54A-4CDB-B200-CCAD516B690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LBN 211-15 “Dzīvojamās ēka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8.5. dzīvojamās ēkās ar vairāk nekā 10 autostāvvietām katrai autostāvvietai kanālus elektrības kabeļiem, lai, ja nepieciešams, varētu ierīkot elektrotransportlīdzekļu uzlādes punkt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7F35-54F2-4006-B1D8-FB06CE0BFC3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s pieslēgumu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balansējošais slēgums</a:t>
            </a: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: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papildus signāla kabeli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430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ek izmantota elektroenerģijas pieslēguma brīvā jau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uzlādes jaudu ierobežo, atkarībā no reālajā laikā pieejamās jaud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niedz iespēju pieejamo jaudu sadalīt starp EM uzlādes pieslēg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078D-E814-4705-99E2-17B76A15A30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lternatīvo degvielu attīstības plāns 2017.–2020. gad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10.Noteiktas prasības ieviest uzlādes iespēju publiskos stāvlaukumos (stāvvietās) pie jaunām un renovētām ēkām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icamās darbīb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āti nosacījumi, lai Eiropas Savienības struktūrfondu vai citu finansējuma avotu ietvaros īstenotu atbalsta pasākumu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CA1F-3EB6-45CD-9D43-074E65B90A2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ozījumi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Ēku energoefektivitātes likum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Priekšlikumi 3.lasījumam Saei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4. pants. Ekspluatējamu ēku minimālās energoefektivitātes prasīb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1) Ekspluatējamu ēku minimālās energoefektivitātes prasības nosaka attiecībā u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lektrotransportlīdzekļu uzlādes punktu ierīkošanu.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A360-70EF-4C8D-8CDD-D9F6A2A60F3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7) tiek atbalstīta elektroinstalācijas izveide daudzdzīvokļu dzīvojamās ēkās konkrētās autostāvviet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2978-ACDC-45D5-B9AB-EC622E882AB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 Veicināt un atbalstīt mazemisiju transportlīdzekļu un bezemisiju transportlīdzekļu iegādi privātpersonām vai komersant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1.finansiāls atbalsts ETL vai velo transportlīdzekļa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alsts tiek sniegts līdz 15 000 bezemisiju, mazemisiju transportlīdzekļu iegād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9ED-3D4A-4410-847F-DCF9B8EDE75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2.2. izveidot ALTUM aizdevumu vai garantiju programmu mazemisiju vai bezemisiju automobiļu iegādei privātperson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) ar dabasgāzi (tostarp biometānu) darbināmu transportlīdzekļu skaits 2030.gadā līdz 30 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B95-819D-47D4-874F-AB394CD5272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4.Palielināt mazemisiju un bezemisiju, transportlīdzekļu skaitu caur publisko iepirkumu veiktajos pakalpojumos un piegād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F06-966E-4187-AF11-45B35CDA9D3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lektromobiļu skaita prognoz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7.2020. 854 EM (M1 un N1);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0%, 2019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48%, 2020.g.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7% (6 mēn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tiksmes ministrija – 6’000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Latvenergo – 36’500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2030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as NAP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ulles emisiju transportlīdzekļu īpatsvars visu transportlīdzekļu skaitā 2% 2027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328608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39D-5E1D-4405-A2D1-2458763289B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NEKP20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5.11.Veicināt maza ātruma transportlīdzekļu infrastruktūras attīstī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nsportlīdzekļi, kuru maksimālais ātrums ir 45km/h, piemēram, mazas jaudas motorolleri, mazas jaudas motocikli, izņemot lauksaimniecības un mežsaimniecības tehni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aktiskās kategorijas: Mopē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i arī Kvadrimobiļ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1332-62CC-4956-B6EB-429BD58EE5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558ed5"/>
                </a:solidFill>
                <a:latin typeface="Calibri"/>
              </a:rPr>
              <a:t>Jautājum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9680" y="4571640"/>
            <a:ext cx="397188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lietotāju Salidojums Latvijā Bānīša svētk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05.09.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9DF9-4B1B-4C04-99B9-3584F125FB1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uma vietturis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User\Desktop\Arnis\e 06122019\1 Salidojums Bānīša svētkos\Foto 2020\Publikacijai\P1040018.JPG"/>
          <p:cNvPicPr/>
          <p:nvPr/>
        </p:nvPicPr>
        <p:blipFill>
          <a:blip r:embed="rId1"/>
          <a:stretch/>
        </p:blipFill>
        <p:spPr>
          <a:xfrm>
            <a:off x="285840" y="100008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:\Users\User\Desktop\Arnis\e 06122019\1 Salidojums Bānīša svētkos\Foto 2020\Publikacijai\P1040036.JPG"/>
          <p:cNvPicPr/>
          <p:nvPr/>
        </p:nvPicPr>
        <p:blipFill>
          <a:blip r:embed="rId2"/>
          <a:stretch/>
        </p:blipFill>
        <p:spPr>
          <a:xfrm>
            <a:off x="464328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Igaunij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’000EUR par EM (M1, N1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vātpersonām un juridiskajām personā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&lt;50’000 EUR bez PV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4 gadu laikā ir jāveic 80’000 k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892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smaz 80% no veiktā nobraukumu ir jāveic Igaunij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ā kārta: 1,2 miljoni EUR: 232 EM, 4 h laik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Otrā kārta no oktobra: 400’000 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uma vietturis 3"/>
          <p:cNvSpPr/>
          <p:nvPr/>
        </p:nvSpPr>
        <p:spPr>
          <a:xfrm>
            <a:off x="321480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46EA-0F5E-4C0A-A32B-DEC372B6332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aisnstūris 5"/>
          <p:cNvSpPr/>
          <p:nvPr/>
        </p:nvSpPr>
        <p:spPr>
          <a:xfrm>
            <a:off x="5500800" y="55720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Granti elektrisko transportlīdzekļu iegādei Lietuvā 2020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’000EUR par jaunu transportlīdzekli (M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’000EUR par lietotu transportlīdzek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’000EUR norakstot veco auto: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/riteņa/mopēda iegādei vai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biedriskajam transport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kai privātpersonām. Budžets: 5 miljoni 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uma vietturis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1E4C-B8EF-4FBE-9ABC-78C431F9804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aisnstūris 6"/>
          <p:cNvSpPr/>
          <p:nvPr/>
        </p:nvSpPr>
        <p:spPr>
          <a:xfrm>
            <a:off x="41432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agatavoja Kārlis Mendziņ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Uzlādēts.lv galvenais redak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Jauno EM praktiskā autonomija – 200 - 300 - 400k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9976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lces akumulatoru kapacitā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 (2014)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olkswagen e-Up!: 36,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(2014): 24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: 38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issan Leaf e+: 62kWh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di e-tron: 95kW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AFFE-55C0-4578-AC6E-B850DDA42FE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M nodotā elektroenerģija (kWh) </a:t>
            </a:r>
            <a:br>
              <a:rPr sz="4400"/>
            </a:b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e-mobi un Elektrum uzlādes tīkl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1653-CE23-4DEC-87DC-09BCEFB78E3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atura vietturis 6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) 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mājās (dominējoši pirmā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75-80% elektromobiļu īpašnieku izvēlēsies regulāri veikt elektromobiļa uzlādi mājās, izmantojot 2-11 kW jaudas pieslēgumu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0CF-F971-48A4-9C43-0AB5A428804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uma vietturis 3"/>
          <p:cNvSpPr/>
          <p:nvPr/>
        </p:nvSpPr>
        <p:spPr>
          <a:xfrm>
            <a:off x="500040" y="6357960"/>
            <a:ext cx="2043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uma vietturis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AS “Latvenergo” prognoze par uzlādes vietas izvēles secīb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) darb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) ilgākas apstāšanās vietā (vairākas stundas), kur uzlāde neliek mainīt dienas plāno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2AF5-5613-43D1-8E21-C55CCFA801F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75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558ed5"/>
                </a:solidFill>
                <a:latin typeface="Calibri"/>
              </a:rPr>
              <a:t>Uzlāde ilgstošas, lietderīgas, apstāšanās vietā: apskate, izklaide, iepirkšanās, maltītes ieturēšana, naktsmīt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D1B9-71D2-4BF8-B554-2E8DC760802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Users\User\Desktop\Arnis\e 06122019\PUBLIKACIJAS\2020\4 jauni uzlādes punkti\Uzlādes pieslēgums Lielbornes muižā.jpg"/>
          <p:cNvPicPr/>
          <p:nvPr/>
        </p:nvPicPr>
        <p:blipFill>
          <a:blip r:embed="rId1"/>
          <a:stretch/>
        </p:blipFill>
        <p:spPr>
          <a:xfrm>
            <a:off x="714240" y="3751200"/>
            <a:ext cx="3357720" cy="2517840"/>
          </a:xfrm>
          <a:prstGeom prst="rect">
            <a:avLst/>
          </a:prstGeom>
          <a:ln w="0">
            <a:noFill/>
          </a:ln>
        </p:spPr>
      </p:pic>
      <p:sp>
        <p:nvSpPr>
          <p:cNvPr id="77" name="Taisnstūris 8"/>
          <p:cNvSpPr/>
          <p:nvPr/>
        </p:nvSpPr>
        <p:spPr>
          <a:xfrm>
            <a:off x="4357800" y="4071960"/>
            <a:ext cx="40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tēlā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lādes pieslēgums Lielbornes muiž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ekļauts BIMAB uzturēta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e-tīkla uzlādes punktu kartē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uma vietturis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20.gada 28.sept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00040" y="2859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2020.g.:  Zemgalē  Lauku māja "Caunītes" (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Cenu pagasts,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Ozolnieku novad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rnis 15.06.</cp:lastModifiedBy>
  <dcterms:modified xsi:type="dcterms:W3CDTF">2020-09-27T16:56:28Z</dcterms:modified>
  <cp:revision>711</cp:revision>
  <dc:subject/>
  <dc:title>Slide 1</dc:title>
</cp:coreProperties>
</file>